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0CC2-808A-445E-8CF1-0721EF69E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8F51-702F-4D21-872B-36550A6E0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1F87-5B7B-4384-9060-F598D5914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E2DD-6218-4328-A080-71B621EBF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B48A-59E6-4D8F-93A3-9D9A7171A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D525-68F5-4659-A832-DF2EC3F89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931A-4B3A-4600-A9F7-93B2144E7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05D8-3137-46DC-B7E3-2789F2096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DBEF-4F0F-400B-AEC8-89CF6A8B9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BD56-FC4F-4A2F-896D-DA1F2A89C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645C-4E3D-4B9F-B02D-4087E4F2E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C773-F529-4D9E-8012-374D7FABF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454AD-5CB2-4DB3-A51E-6064AD860A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HoffmannHeinrichPortrait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upload.wikimedia.org/wikipedia/commons/thumb/6/6d/HoffmannHeinrichPortrait.jpg/220px-HoffmannHeinrichPortrait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29000" y="609480"/>
            <a:ext cx="2514600" cy="275436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1066680" y="1522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reib auf der Ruckseit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457200" y="3505320"/>
            <a:ext cx="8153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h denke, dass Heinrich Hoffman in ________________ geboren ist.  (1600, 1700, 1800, 19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h denke, dass er _______________________ und Autor war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2971800" y="59436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 war sein Job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Straight Arrow Connector 8"/>
          <p:cNvCxnSpPr/>
          <p:nvPr/>
        </p:nvCxnSpPr>
        <p:spPr>
          <a:xfrm flipV="1">
            <a:off x="4495680" y="5105520"/>
            <a:ext cx="38880" cy="576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://upload.wikimedia.org/wikipedia/commons/thumb/6/6d/HoffmannHeinrichPortrait.jpg/220px-HoffmannHeinrichPortrait.jpg"/>
          <p:cNvPicPr/>
          <p:nvPr/>
        </p:nvPicPr>
        <p:blipFill>
          <a:blip r:embed="rId1"/>
          <a:stretch/>
        </p:blipFill>
        <p:spPr>
          <a:xfrm>
            <a:off x="6400800" y="304920"/>
            <a:ext cx="2095560" cy="2295360"/>
          </a:xfrm>
          <a:prstGeom prst="rect">
            <a:avLst/>
          </a:prstGeom>
          <a:ln w="0">
            <a:noFill/>
          </a:ln>
        </p:spPr>
      </p:pic>
      <p:sp>
        <p:nvSpPr>
          <p:cNvPr id="47" name="TextBox 4"/>
          <p:cNvSpPr/>
          <p:nvPr/>
        </p:nvSpPr>
        <p:spPr>
          <a:xfrm>
            <a:off x="76320" y="76320"/>
            <a:ext cx="62481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r. Heinrich Hoffmann war ein Psychologe und Autor.  Er war in 1809 in Frankfurt am Main, Deutschland geboren.  Er hatte drei Kinder.  Er dachte dass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keine gute Kinderbücher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gab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 Sie waren zu nett.  Er schrieb und zeichnete sein eigenes Buch für seinen Sohn, der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ers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drei Jahre alt war.  Das war ein Geschenk zum Weihnachten (im Jahr 1845).  Es heisst “Der Struwwelpeter”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s Buch ist kein typisches Kinderbuch.  Es will die Kinder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etwa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lehre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 Wenn du unartig bist,  gibt es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scharf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starke, brutale und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manchma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tödlich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Konsequenzen. Mark Twain fand das Buch interessant und im Jahr 1935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übersetzt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er das Buch ins Englisch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5"/>
          <p:cNvSpPr/>
          <p:nvPr/>
        </p:nvSpPr>
        <p:spPr>
          <a:xfrm>
            <a:off x="5192640" y="3317760"/>
            <a:ext cx="3886200" cy="3501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haben, hatte, hat …gehab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denken, dachte, hat …geda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geben, gab, hat …gegeb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schreiben, schrieb, hat …geschreib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zeichnen, zeichnete, hat …gezeich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übersetzen, übersetzte, hat …übersetz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s gab –  there was (idio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rst – only (used with ag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twas – somet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ehren – to te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charf – harsh or shar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anchmal - someti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ödliche – dead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übersetzt 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0" y="4272120"/>
            <a:ext cx="50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as hast du verstanden (understood)? Schreib interessanten Fakten auf Englisc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Rectangle 2" descr=""/>
          <p:cNvPicPr/>
          <p:nvPr/>
        </p:nvPicPr>
        <p:blipFill>
          <a:blip r:embed="rId2"/>
          <a:stretch/>
        </p:blipFill>
        <p:spPr>
          <a:xfrm>
            <a:off x="249120" y="3213000"/>
            <a:ext cx="487224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://upload.wikimedia.org/wikipedia/commons/thumb/6/6d/HoffmannHeinrichPortrait.jpg/220px-HoffmannHeinrichPortrait.jpg"/>
          <p:cNvPicPr/>
          <p:nvPr/>
        </p:nvPicPr>
        <p:blipFill>
          <a:blip r:embed="rId1"/>
          <a:stretch/>
        </p:blipFill>
        <p:spPr>
          <a:xfrm>
            <a:off x="3429000" y="609480"/>
            <a:ext cx="2514600" cy="2754360"/>
          </a:xfrm>
          <a:prstGeom prst="rect">
            <a:avLst/>
          </a:prstGeom>
          <a:ln w="0">
            <a:noFill/>
          </a:ln>
        </p:spPr>
      </p:pic>
      <p:sp>
        <p:nvSpPr>
          <p:cNvPr id="52" name="TextBox 4"/>
          <p:cNvSpPr/>
          <p:nvPr/>
        </p:nvSpPr>
        <p:spPr>
          <a:xfrm>
            <a:off x="1066680" y="1522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reib auf der Ruckseit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457200" y="3505320"/>
            <a:ext cx="8153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h habe gedacht, dass Heinrich Hoffman in ________________ geboren ist.  (1600, 1700, 1800, 1900)  Aber jetzt weiss ich, dass er in _______________ geboren 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h habe gedacht, dass er ___________ war.  Aber jetzt weiss ich, dass er _____________ war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7T20:22:09Z</dcterms:created>
  <dc:creator>tmsadmin</dc:creator>
  <dc:description/>
  <dc:language>en-US</dc:language>
  <cp:lastModifiedBy>tmsadmin</cp:lastModifiedBy>
  <dcterms:modified xsi:type="dcterms:W3CDTF">2014-02-18T15:22:26Z</dcterms:modified>
  <cp:revision>25</cp:revision>
  <dc:subject/>
  <dc:title>Slide 1</dc:title>
</cp:coreProperties>
</file>